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8BED-1F71-44F8-9DB6-AD8B6D411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F7AD-6C1E-4CD1-90D1-26196E778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269-BE02-44BF-9780-D3BEE9CD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81A-A044-463E-AEB9-A800AE41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F90-038A-45AF-A844-1CB9D28B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974-F155-41FA-A6FD-5F1DDD51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045-8335-4C46-83EE-FF275E29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45A-5A50-4F54-9E2F-7A99E6B8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412-9625-4FA7-BDD8-2B4A145B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900-5C67-4180-B2C2-0786258F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34E-BB29-4ED6-A6C7-676E39B3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C0A-4179-4A6D-81A5-F5EACCBB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78B-1D79-45AF-94D0-77C47C6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7AF-DAF3-4F74-8D13-AA45F21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C168-6F6A-425C-AF1C-5A1353A68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ra Mucolla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ara Mucoll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ara Mucollar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ara Mucollar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ara Mucollar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Sara. Yo vivo en la ciudad de New York. Tengo 14 años. Yo tengo dos herman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25456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657600"/>
            <a:ext cx="38098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124080"/>
            <a:ext cx="3809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bien una tu puedes comer pizza?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09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Como estas? También, si usted venir traer                                                                                     Sar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1148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ir en el sábado?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45720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ónde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25780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odemos ir a Papá Johns?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én quiere comer pizz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2743200" y="586728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2743200" y="640080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, nosotras yendo en la pizzería mañana. Ciao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8:38Z</dcterms:created>
  <dc:creator>FriscoISD</dc:creator>
  <dc:description/>
  <dc:language>en-US</dc:language>
  <cp:lastModifiedBy>User</cp:lastModifiedBy>
  <dcterms:modified xsi:type="dcterms:W3CDTF">2013-01-02T14:06:46Z</dcterms:modified>
  <cp:revision>107</cp:revision>
  <dc:subject/>
  <dc:title>Profile</dc:title>
</cp:coreProperties>
</file>